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CF78-D8F2-4E92-8D10-482F8293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423E-DB07-49CD-B12B-222D2467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70BE-344B-4C10-A695-52846BC4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E12C-AC67-4110-A7C4-0D1341B0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28AB-A95A-480C-BF35-26E1E3A9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57D3-4C6D-4237-B0AD-81D41ACB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1106-0361-4124-A936-3BE7E508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8477-514F-443E-8DBD-820A346D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3C72-0A1F-4B8F-A593-45F32CD6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3FF2-70DE-438D-ACA8-3CAFF33C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96D2-828B-4F9B-A883-D7C7686C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5BD6-4BA4-4191-9CB3-545FD070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D2EC-7BCF-4BD5-97BB-E4E0FC926F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2.xml"/><Relationship Id="rId9" Type="http://schemas.openxmlformats.org/officeDocument/2006/relationships/slide" Target="slide12.xml"/><Relationship Id="rId10" Type="http://schemas.openxmlformats.org/officeDocument/2006/relationships/slide" Target="slide4.xml"/><Relationship Id="rId11" Type="http://schemas.openxmlformats.org/officeDocument/2006/relationships/slide" Target="slide16.xml"/><Relationship Id="rId12" Type="http://schemas.openxmlformats.org/officeDocument/2006/relationships/slide" Target="slide18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9.xml"/><Relationship Id="rId16" Type="http://schemas.openxmlformats.org/officeDocument/2006/relationships/slide" Target="slide10.xml"/><Relationship Id="rId17" Type="http://schemas.openxmlformats.org/officeDocument/2006/relationships/slide" Target="slide17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20.xml"/><Relationship Id="rId21" Type="http://schemas.openxmlformats.org/officeDocument/2006/relationships/slide" Target="slide13.xml"/><Relationship Id="rId22" Type="http://schemas.openxmlformats.org/officeDocument/2006/relationships/slide" Target="slide7.xml"/><Relationship Id="rId23" Type="http://schemas.openxmlformats.org/officeDocument/2006/relationships/slide" Target="slide21.xml"/><Relationship Id="rId24" Type="http://schemas.openxmlformats.org/officeDocument/2006/relationships/slide" Target="slide3.xml"/><Relationship Id="rId25" Type="http://schemas.openxmlformats.org/officeDocument/2006/relationships/slide" Target="slide8.xml"/><Relationship Id="rId26" Type="http://schemas.openxmlformats.org/officeDocument/2006/relationships/slide" Target="slide22.xml"/><Relationship Id="rId27" Type="http://schemas.openxmlformats.org/officeDocument/2006/relationships/slide" Target="slide23.xml"/><Relationship Id="rId28" Type="http://schemas.openxmlformats.org/officeDocument/2006/relationships/slide" Target="slide24.xml"/><Relationship Id="rId29" Type="http://schemas.openxmlformats.org/officeDocument/2006/relationships/slide" Target="slide25.xml"/><Relationship Id="rId30" Type="http://schemas.openxmlformats.org/officeDocument/2006/relationships/slide" Target="slide26.xml"/><Relationship Id="rId31" Type="http://schemas.openxmlformats.org/officeDocument/2006/relationships/slide" Target="slide27.xml"/><Relationship Id="rId32" Type="http://schemas.openxmlformats.org/officeDocument/2006/relationships/slide" Target="slide28.xml"/><Relationship Id="rId33" Type="http://schemas.openxmlformats.org/officeDocument/2006/relationships/slide" Target="slide29.xml"/><Relationship Id="rId34" Type="http://schemas.openxmlformats.org/officeDocument/2006/relationships/slide" Target="slide30.xml"/><Relationship Id="rId35" Type="http://schemas.openxmlformats.org/officeDocument/2006/relationships/slide" Target="slide31.xml"/><Relationship Id="rId36" Type="http://schemas.openxmlformats.org/officeDocument/2006/relationships/slide" Target="slide32.xml"/><Relationship Id="rId3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Copperplate Gothic Bold"/>
              </a:rPr>
              <a:t>J E O P A R D Y !!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61880" y="839880"/>
          <a:ext cx="8166240" cy="1654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1880" y="839880"/>
                    <a:ext cx="816624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533520" y="35053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533520" y="42670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609480" y="49528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762120" y="28954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533520" y="1981080"/>
            <a:ext cx="1371600" cy="8384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2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>
            <a:hlinkClick r:id="rId9" action="ppaction://hlinksldjump"/>
          </p:cNvPr>
          <p:cNvSpPr/>
          <p:nvPr/>
        </p:nvSpPr>
        <p:spPr>
          <a:xfrm>
            <a:off x="3200400" y="1981080"/>
            <a:ext cx="1371600" cy="8384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2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>
            <a:hlinkClick r:id="rId10" action="ppaction://hlinksldjump"/>
          </p:cNvPr>
          <p:cNvSpPr/>
          <p:nvPr/>
        </p:nvSpPr>
        <p:spPr>
          <a:xfrm>
            <a:off x="533520" y="3581280"/>
            <a:ext cx="1371600" cy="8384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6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>
            <a:hlinkClick r:id="rId11" action="ppaction://hlinksldjump"/>
          </p:cNvPr>
          <p:cNvSpPr/>
          <p:nvPr/>
        </p:nvSpPr>
        <p:spPr>
          <a:xfrm>
            <a:off x="3200400" y="4419720"/>
            <a:ext cx="137160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8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>
            <a:hlinkClick r:id="rId12" action="ppaction://hlinksldjump"/>
          </p:cNvPr>
          <p:cNvSpPr/>
          <p:nvPr/>
        </p:nvSpPr>
        <p:spPr>
          <a:xfrm>
            <a:off x="4572000" y="1981080"/>
            <a:ext cx="1371600" cy="8384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2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>
            <a:hlinkClick r:id="rId13" action="ppaction://hlinksldjump"/>
          </p:cNvPr>
          <p:cNvSpPr/>
          <p:nvPr/>
        </p:nvSpPr>
        <p:spPr>
          <a:xfrm>
            <a:off x="4572000" y="2743200"/>
            <a:ext cx="137160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4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>
            <a:hlinkClick r:id="rId14" action="ppaction://hlinksldjump"/>
          </p:cNvPr>
          <p:cNvSpPr/>
          <p:nvPr/>
        </p:nvSpPr>
        <p:spPr>
          <a:xfrm>
            <a:off x="533520" y="4419720"/>
            <a:ext cx="137160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8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>
            <a:hlinkClick r:id="rId15" action="ppaction://hlinksldjump"/>
          </p:cNvPr>
          <p:cNvSpPr/>
          <p:nvPr/>
        </p:nvSpPr>
        <p:spPr>
          <a:xfrm>
            <a:off x="1828800" y="3581280"/>
            <a:ext cx="1371600" cy="8384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6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>
            <a:hlinkClick r:id="rId16" action="ppaction://hlinksldjump"/>
          </p:cNvPr>
          <p:cNvSpPr/>
          <p:nvPr/>
        </p:nvSpPr>
        <p:spPr>
          <a:xfrm>
            <a:off x="1828800" y="4419720"/>
            <a:ext cx="137160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8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>
            <a:hlinkClick r:id="rId17" action="ppaction://hlinksldjump"/>
          </p:cNvPr>
          <p:cNvSpPr/>
          <p:nvPr/>
        </p:nvSpPr>
        <p:spPr>
          <a:xfrm>
            <a:off x="3200400" y="5257800"/>
            <a:ext cx="137160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10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>
            <a:hlinkClick r:id="rId18" action="ppaction://hlinksldjump"/>
          </p:cNvPr>
          <p:cNvSpPr/>
          <p:nvPr/>
        </p:nvSpPr>
        <p:spPr>
          <a:xfrm>
            <a:off x="533520" y="5257800"/>
            <a:ext cx="137160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10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1828800" y="5257800"/>
            <a:ext cx="137160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10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>
            <a:hlinkClick r:id="rId20" action="ppaction://hlinksldjump"/>
          </p:cNvPr>
          <p:cNvSpPr/>
          <p:nvPr/>
        </p:nvSpPr>
        <p:spPr>
          <a:xfrm>
            <a:off x="4572000" y="3581280"/>
            <a:ext cx="1371600" cy="8384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6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>
            <a:hlinkClick r:id="rId21" action="ppaction://hlinksldjump"/>
          </p:cNvPr>
          <p:cNvSpPr/>
          <p:nvPr/>
        </p:nvSpPr>
        <p:spPr>
          <a:xfrm>
            <a:off x="3200400" y="2743200"/>
            <a:ext cx="137160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4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1371600" cy="8384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6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>
            <a:hlinkClick r:id="rId22" action="ppaction://hlinksldjump"/>
          </p:cNvPr>
          <p:cNvSpPr/>
          <p:nvPr/>
        </p:nvSpPr>
        <p:spPr>
          <a:xfrm>
            <a:off x="1828800" y="1981080"/>
            <a:ext cx="1371600" cy="8384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2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>
            <a:hlinkClick r:id="rId23" action="ppaction://hlinksldjump"/>
          </p:cNvPr>
          <p:cNvSpPr/>
          <p:nvPr/>
        </p:nvSpPr>
        <p:spPr>
          <a:xfrm>
            <a:off x="4572000" y="4419720"/>
            <a:ext cx="137160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8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>
            <a:hlinkClick r:id="rId24" action="ppaction://hlinksldjump"/>
          </p:cNvPr>
          <p:cNvSpPr/>
          <p:nvPr/>
        </p:nvSpPr>
        <p:spPr>
          <a:xfrm>
            <a:off x="533520" y="2743200"/>
            <a:ext cx="129528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4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>
            <a:hlinkClick r:id="rId25" action="ppaction://hlinksldjump"/>
          </p:cNvPr>
          <p:cNvSpPr/>
          <p:nvPr/>
        </p:nvSpPr>
        <p:spPr>
          <a:xfrm>
            <a:off x="1828800" y="2743200"/>
            <a:ext cx="137160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4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>
            <a:hlinkClick r:id="rId26" action="ppaction://hlinksldjump"/>
          </p:cNvPr>
          <p:cNvSpPr/>
          <p:nvPr/>
        </p:nvSpPr>
        <p:spPr>
          <a:xfrm>
            <a:off x="4572000" y="5257800"/>
            <a:ext cx="137160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10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>
            <a:hlinkClick r:id="rId27" action="ppaction://hlinksldjump"/>
          </p:cNvPr>
          <p:cNvSpPr/>
          <p:nvPr/>
        </p:nvSpPr>
        <p:spPr>
          <a:xfrm>
            <a:off x="5943600" y="1981080"/>
            <a:ext cx="1371600" cy="8384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2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>
            <a:hlinkClick r:id="rId28" action="ppaction://hlinksldjump"/>
          </p:cNvPr>
          <p:cNvSpPr/>
          <p:nvPr/>
        </p:nvSpPr>
        <p:spPr>
          <a:xfrm>
            <a:off x="5943600" y="2743200"/>
            <a:ext cx="137160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4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>
            <a:hlinkClick r:id="rId29" action="ppaction://hlinksldjump"/>
          </p:cNvPr>
          <p:cNvSpPr/>
          <p:nvPr/>
        </p:nvSpPr>
        <p:spPr>
          <a:xfrm>
            <a:off x="5943600" y="3581280"/>
            <a:ext cx="1371600" cy="8384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6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>
            <a:hlinkClick r:id="rId30" action="ppaction://hlinksldjump"/>
          </p:cNvPr>
          <p:cNvSpPr/>
          <p:nvPr/>
        </p:nvSpPr>
        <p:spPr>
          <a:xfrm>
            <a:off x="5943600" y="4419720"/>
            <a:ext cx="137160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8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>
            <a:hlinkClick r:id="rId31" action="ppaction://hlinksldjump"/>
          </p:cNvPr>
          <p:cNvSpPr/>
          <p:nvPr/>
        </p:nvSpPr>
        <p:spPr>
          <a:xfrm>
            <a:off x="5943600" y="5257800"/>
            <a:ext cx="137160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10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>
            <a:hlinkClick r:id="rId32" action="ppaction://hlinksldjump"/>
          </p:cNvPr>
          <p:cNvSpPr/>
          <p:nvPr/>
        </p:nvSpPr>
        <p:spPr>
          <a:xfrm>
            <a:off x="7315200" y="1981080"/>
            <a:ext cx="1371600" cy="8384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2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>
            <a:hlinkClick r:id="rId33" action="ppaction://hlinksldjump"/>
          </p:cNvPr>
          <p:cNvSpPr/>
          <p:nvPr/>
        </p:nvSpPr>
        <p:spPr>
          <a:xfrm>
            <a:off x="7315200" y="2743200"/>
            <a:ext cx="137160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4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>
            <a:hlinkClick r:id="rId34" action="ppaction://hlinksldjump"/>
          </p:cNvPr>
          <p:cNvSpPr/>
          <p:nvPr/>
        </p:nvSpPr>
        <p:spPr>
          <a:xfrm>
            <a:off x="7315200" y="3581280"/>
            <a:ext cx="1371600" cy="8384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6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>
            <a:hlinkClick r:id="rId35" action="ppaction://hlinksldjump"/>
          </p:cNvPr>
          <p:cNvSpPr/>
          <p:nvPr/>
        </p:nvSpPr>
        <p:spPr>
          <a:xfrm>
            <a:off x="7315200" y="4419720"/>
            <a:ext cx="137160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8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>
            <a:hlinkClick r:id="rId36" action="ppaction://hlinksldjump"/>
          </p:cNvPr>
          <p:cNvSpPr/>
          <p:nvPr/>
        </p:nvSpPr>
        <p:spPr>
          <a:xfrm>
            <a:off x="7315200" y="5257800"/>
            <a:ext cx="137160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empus Sans ITC"/>
              </a:rPr>
              <a:t>10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762120"/>
            <a:ext cx="8915400" cy="46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800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Multiplying and Dividing Inte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99"/>
                </a:solidFill>
                <a:latin typeface="Times New Roman"/>
              </a:rPr>
              <a:t>Which one of the following numbers is divisible by 9?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99"/>
                </a:solidFill>
                <a:latin typeface="Times New Roman"/>
              </a:rPr>
              <a:t>882, 179, 332</a:t>
            </a:r>
            <a:endParaRPr b="0" lang="en-US" sz="1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36600" y="762120"/>
            <a:ext cx="8566200" cy="46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1000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Multiplying and Dividing Inte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99"/>
                </a:solidFill>
                <a:latin typeface="Times New Roman"/>
              </a:rPr>
              <a:t>Which one of the following numbers is NOT divisible by 3?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99"/>
                </a:solidFill>
                <a:latin typeface="Times New Roman"/>
              </a:rPr>
              <a:t>819, 390, 121</a:t>
            </a:r>
            <a:endParaRPr b="0" lang="en-US" sz="1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066680" y="762120"/>
            <a:ext cx="716292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200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        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  <a:ea typeface="Times New Roman"/>
              </a:rPr>
              <a:t>Equivalent Fractions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99"/>
                </a:solidFill>
                <a:latin typeface="Times New Roman"/>
              </a:rPr>
              <a:t>Find n</a:t>
            </a:r>
            <a:r>
              <a:rPr b="0" lang="en-US" sz="5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819600" y="1650960"/>
          <a:ext cx="4038480" cy="332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19600" y="1650960"/>
                    <a:ext cx="4038480" cy="33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90720" y="762120"/>
            <a:ext cx="764064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400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           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  <a:ea typeface="Times New Roman"/>
              </a:rPr>
              <a:t>Equivalent Fractions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99"/>
                </a:solidFill>
                <a:latin typeface="Times New Roman"/>
              </a:rPr>
              <a:t>Find w.</a:t>
            </a:r>
            <a:r>
              <a:rPr b="0" lang="en-US" sz="5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529080" y="1805040"/>
          <a:ext cx="5102280" cy="330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9080" y="1805040"/>
                    <a:ext cx="510228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505320" y="1752480"/>
            <a:ext cx="228600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empus Sans ITC"/>
              </a:rPr>
              <a:t>daily</a:t>
            </a:r>
            <a:endParaRPr b="0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905120" y="2819520"/>
            <a:ext cx="5143320" cy="173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OUBLE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762120"/>
            <a:ext cx="807696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Daily Double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        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  <a:ea typeface="Times New Roman"/>
              </a:rPr>
              <a:t>Equivalent Fractions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99"/>
                </a:solidFill>
                <a:latin typeface="Times New Roman"/>
              </a:rPr>
              <a:t>Find t.</a:t>
            </a:r>
            <a:r>
              <a:rPr b="0" lang="en-US" sz="5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2590920" y="5791320"/>
            <a:ext cx="4038480" cy="76176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14469" h="21600">
                <a:moveTo>
                  <a:pt x="0" y="0"/>
                </a:moveTo>
                <a:lnTo>
                  <a:pt x="114469" y="0"/>
                </a:lnTo>
                <a:lnTo>
                  <a:pt x="114469" y="21600"/>
                </a:lnTo>
                <a:lnTo>
                  <a:pt x="0" y="21600"/>
                </a:lnTo>
                <a:close/>
              </a:path>
              <a:path fill="lightenLess" w="114469" h="21600">
                <a:moveTo>
                  <a:pt x="0" y="0"/>
                </a:moveTo>
                <a:lnTo>
                  <a:pt x="114469" y="0"/>
                </a:lnTo>
                <a:lnTo>
                  <a:pt x="113069" y="1400"/>
                </a:lnTo>
                <a:lnTo>
                  <a:pt x="1400" y="1400"/>
                </a:lnTo>
                <a:close/>
              </a:path>
              <a:path fill="darken" w="114469" h="21600">
                <a:moveTo>
                  <a:pt x="114469" y="0"/>
                </a:moveTo>
                <a:lnTo>
                  <a:pt x="114469" y="21600"/>
                </a:lnTo>
                <a:lnTo>
                  <a:pt x="113069" y="20200"/>
                </a:lnTo>
                <a:lnTo>
                  <a:pt x="113069" y="1400"/>
                </a:lnTo>
                <a:close/>
              </a:path>
              <a:path fill="darkenLess" w="114469" h="21600">
                <a:moveTo>
                  <a:pt x="1144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69" y="20200"/>
                </a:lnTo>
                <a:close/>
              </a:path>
              <a:path fill="lighten" w="1144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062160" y="1596960"/>
          <a:ext cx="4631040" cy="398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2160" y="1596960"/>
                    <a:ext cx="4631040" cy="39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66680" y="762120"/>
            <a:ext cx="716292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800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       E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  <a:ea typeface="Times New Roman"/>
              </a:rPr>
              <a:t>quivalent Fr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4997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99"/>
                </a:solidFill>
                <a:latin typeface="Times New Roman"/>
              </a:rPr>
              <a:t>Which of the following fractions do not belong?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4997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lastslide"/>
          </p:cNvPr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917800" y="3076560"/>
          <a:ext cx="3675240" cy="260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7800" y="3076560"/>
                    <a:ext cx="367524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66680" y="762120"/>
            <a:ext cx="7162920" cy="38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1000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                   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  <a:ea typeface="Times New Roman"/>
              </a:rPr>
              <a:t>Equivalent Fr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99"/>
                </a:solidFill>
                <a:latin typeface="Times New Roman"/>
              </a:rPr>
              <a:t>Which of the following fractions do NOT belong?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987560" y="3427560"/>
          <a:ext cx="5353200" cy="24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7560" y="3427560"/>
                    <a:ext cx="5353200" cy="24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66680" y="762120"/>
            <a:ext cx="716292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200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           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     Proper vs. Improper Fr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99"/>
                </a:solidFill>
                <a:latin typeface="Times New Roman"/>
              </a:rPr>
              <a:t>Which of the following is an improper fraction?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941560" y="2940120"/>
          <a:ext cx="3570480" cy="292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1560" y="2940120"/>
                    <a:ext cx="3570480" cy="29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066680" y="762120"/>
            <a:ext cx="716292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400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           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     Proper vs. Improper Fr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99"/>
                </a:solidFill>
                <a:latin typeface="Times New Roman"/>
              </a:rPr>
              <a:t>Which of the following is a proper fraction?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941560" y="2940120"/>
          <a:ext cx="3570480" cy="292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1560" y="2940120"/>
                    <a:ext cx="3570480" cy="29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2590920" y="571500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762120"/>
            <a:ext cx="7162920" cy="83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200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Adding and Subtracting Inte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99"/>
                </a:solidFill>
                <a:latin typeface="Times New Roman"/>
              </a:rPr>
              <a:t>-4+13</a:t>
            </a:r>
            <a:endParaRPr b="0" lang="en-US" sz="15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762120"/>
            <a:ext cx="716292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600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           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     Proper vs. Improper Fr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99"/>
                </a:solidFill>
                <a:latin typeface="Times New Roman"/>
              </a:rPr>
              <a:t>Write the following as a mixed number: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067280" y="2922480"/>
          <a:ext cx="1290600" cy="271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7280" y="2922480"/>
                    <a:ext cx="1290600" cy="27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762120"/>
            <a:ext cx="716292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800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           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empus Sans ITC"/>
              </a:rPr>
              <a:t>     Proper vs. Improper Fr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99"/>
                </a:solidFill>
                <a:latin typeface="Times New Roman"/>
              </a:rPr>
              <a:t>Write the following as an improper fraction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521160" y="3124080"/>
          <a:ext cx="1527120" cy="27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1160" y="3124080"/>
                    <a:ext cx="15271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762120"/>
            <a:ext cx="716292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1000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          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    Proper vs. Improper Fr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Times New Roman"/>
              </a:rPr>
              <a:t>Put the following improper fractions in order from least to greatest.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940120" y="2670120"/>
          <a:ext cx="3666960" cy="295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0120" y="2670120"/>
                    <a:ext cx="3666960" cy="29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762120"/>
            <a:ext cx="7162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200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          Adding and Subtracting Fractions           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990880" y="1600200"/>
          <a:ext cx="347976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90880" y="1600200"/>
                    <a:ext cx="34797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762120"/>
            <a:ext cx="7162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400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          Adding and Subtracting Fr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016080" y="1600200"/>
          <a:ext cx="342900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16080" y="1600200"/>
                    <a:ext cx="342900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762120"/>
            <a:ext cx="7162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600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          Adding and Subtracting Fr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122560" y="1766880"/>
          <a:ext cx="521964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2560" y="1766880"/>
                    <a:ext cx="52196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762120"/>
            <a:ext cx="7162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800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          Adding and Subtracting Fr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013120" y="1774800"/>
          <a:ext cx="535932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13120" y="1774800"/>
                    <a:ext cx="53593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762120"/>
            <a:ext cx="7162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1000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          Adding and Subtracting Fr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130480" y="1666800"/>
          <a:ext cx="5232240" cy="358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0480" y="1666800"/>
                    <a:ext cx="523224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7621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200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        Multiplying and Dividing Fr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132000" y="1641600"/>
          <a:ext cx="320040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1641600"/>
                    <a:ext cx="320040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762120"/>
            <a:ext cx="71629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400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        Multiplying and Dividing Fr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371760" y="1706400"/>
          <a:ext cx="2616120" cy="358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71760" y="1706400"/>
                    <a:ext cx="261612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66680" y="762120"/>
            <a:ext cx="716292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400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Adding and Subtracting Inte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99"/>
                </a:solidFill>
                <a:latin typeface="Times New Roman"/>
              </a:rPr>
              <a:t>-11+-13</a:t>
            </a:r>
            <a:endParaRPr b="0" lang="en-US" sz="1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2590920" y="5791320"/>
            <a:ext cx="4038480" cy="76176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14469" h="21600">
                <a:moveTo>
                  <a:pt x="0" y="0"/>
                </a:moveTo>
                <a:lnTo>
                  <a:pt x="114469" y="0"/>
                </a:lnTo>
                <a:lnTo>
                  <a:pt x="114469" y="21600"/>
                </a:lnTo>
                <a:lnTo>
                  <a:pt x="0" y="21600"/>
                </a:lnTo>
                <a:close/>
              </a:path>
              <a:path fill="lightenLess" w="114469" h="21600">
                <a:moveTo>
                  <a:pt x="0" y="0"/>
                </a:moveTo>
                <a:lnTo>
                  <a:pt x="114469" y="0"/>
                </a:lnTo>
                <a:lnTo>
                  <a:pt x="113069" y="1400"/>
                </a:lnTo>
                <a:lnTo>
                  <a:pt x="1400" y="1400"/>
                </a:lnTo>
                <a:close/>
              </a:path>
              <a:path fill="darken" w="114469" h="21600">
                <a:moveTo>
                  <a:pt x="114469" y="0"/>
                </a:moveTo>
                <a:lnTo>
                  <a:pt x="114469" y="21600"/>
                </a:lnTo>
                <a:lnTo>
                  <a:pt x="113069" y="20200"/>
                </a:lnTo>
                <a:lnTo>
                  <a:pt x="113069" y="1400"/>
                </a:lnTo>
                <a:close/>
              </a:path>
              <a:path fill="darkenLess" w="114469" h="21600">
                <a:moveTo>
                  <a:pt x="1144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69" y="20200"/>
                </a:lnTo>
                <a:close/>
              </a:path>
              <a:path fill="lighten" w="1144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>
            <a:hlinkClick r:id="rId2" action="ppaction://hlinksldjump"/>
          </p:cNvPr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762120"/>
            <a:ext cx="7162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600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        Multiplying and Dividing Fr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87680" y="1735200"/>
          <a:ext cx="4267080" cy="358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87680" y="1735200"/>
                    <a:ext cx="426708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762120"/>
            <a:ext cx="7162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800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        Multiplying and Dividing Fr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081160" y="1951200"/>
          <a:ext cx="514368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81160" y="1951200"/>
                    <a:ext cx="514368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762120"/>
            <a:ext cx="7162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1000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        Multiplying and Dividing Fr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013120" y="1951200"/>
          <a:ext cx="5143320" cy="358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13120" y="1951200"/>
                    <a:ext cx="51433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66680" y="762120"/>
            <a:ext cx="716292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600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Adding and Subtracting Inte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99"/>
                </a:solidFill>
                <a:latin typeface="Times New Roman"/>
              </a:rPr>
              <a:t>12-(-13)</a:t>
            </a:r>
            <a:endParaRPr b="0" lang="en-US" sz="1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2743200" y="5791320"/>
            <a:ext cx="4038480" cy="76176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14469" h="21600">
                <a:moveTo>
                  <a:pt x="0" y="0"/>
                </a:moveTo>
                <a:lnTo>
                  <a:pt x="114469" y="0"/>
                </a:lnTo>
                <a:lnTo>
                  <a:pt x="114469" y="21600"/>
                </a:lnTo>
                <a:lnTo>
                  <a:pt x="0" y="21600"/>
                </a:lnTo>
                <a:close/>
              </a:path>
              <a:path fill="lightenLess" w="114469" h="21600">
                <a:moveTo>
                  <a:pt x="0" y="0"/>
                </a:moveTo>
                <a:lnTo>
                  <a:pt x="114469" y="0"/>
                </a:lnTo>
                <a:lnTo>
                  <a:pt x="113069" y="1400"/>
                </a:lnTo>
                <a:lnTo>
                  <a:pt x="1400" y="1400"/>
                </a:lnTo>
                <a:close/>
              </a:path>
              <a:path fill="darken" w="114469" h="21600">
                <a:moveTo>
                  <a:pt x="114469" y="0"/>
                </a:moveTo>
                <a:lnTo>
                  <a:pt x="114469" y="21600"/>
                </a:lnTo>
                <a:lnTo>
                  <a:pt x="113069" y="20200"/>
                </a:lnTo>
                <a:lnTo>
                  <a:pt x="113069" y="1400"/>
                </a:lnTo>
                <a:close/>
              </a:path>
              <a:path fill="darkenLess" w="114469" h="21600">
                <a:moveTo>
                  <a:pt x="1144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69" y="20200"/>
                </a:lnTo>
                <a:close/>
              </a:path>
              <a:path fill="lighten" w="1144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66680" y="762120"/>
            <a:ext cx="7526520" cy="77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800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Adding and Subtracting Inte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99"/>
                </a:solidFill>
                <a:latin typeface="Times New Roman"/>
              </a:rPr>
              <a:t>-22-(-33)</a:t>
            </a:r>
            <a:endParaRPr b="0" lang="en-US" sz="1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762120"/>
            <a:ext cx="7961400" cy="39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1000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Adding and Subtracting Inte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99"/>
                </a:solidFill>
                <a:latin typeface="Times New Roman"/>
              </a:rPr>
              <a:t>-3-(-5)+-7</a:t>
            </a:r>
            <a:endParaRPr b="0" lang="en-US" sz="1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66680" y="762120"/>
            <a:ext cx="752652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200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Multiplying and Dividing Inte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99"/>
                </a:solidFill>
                <a:latin typeface="Times New Roman"/>
              </a:rPr>
              <a:t>7</a:t>
            </a:r>
            <a:r>
              <a:rPr b="0" lang="en-US" sz="15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•-9</a:t>
            </a:r>
            <a:endParaRPr b="0" lang="en-US" sz="1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66680" y="762120"/>
            <a:ext cx="7553520" cy="77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400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Multiplying and Dividing Inte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99"/>
                </a:solidFill>
                <a:latin typeface="Times New Roman"/>
              </a:rPr>
              <a:t>10</a:t>
            </a:r>
            <a:r>
              <a:rPr b="0" lang="en-US" sz="15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•-2</a:t>
            </a:r>
            <a:endParaRPr b="0" lang="en-US" sz="1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66680" y="762120"/>
            <a:ext cx="743112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600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empus Sans ITC"/>
              </a:rPr>
              <a:t> Multiplying and Dividing Inte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99"/>
                </a:solidFill>
                <a:latin typeface="Times New Roman"/>
              </a:rPr>
              <a:t>-8</a:t>
            </a:r>
            <a:r>
              <a:rPr b="1" lang="en-US" sz="15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•-7</a:t>
            </a:r>
            <a:endParaRPr b="0" lang="en-US" sz="1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2743200" y="5867280"/>
            <a:ext cx="4038480" cy="762120"/>
          </a:xfrm>
          <a:custGeom>
            <a:avLst/>
            <a:gdLst>
              <a:gd name="textAreaLeft" fmla="*/ 49320 w 4038480"/>
              <a:gd name="textAreaRight" fmla="*/ 3989160 w 4038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3015" y="1400"/>
                </a:lnTo>
                <a:lnTo>
                  <a:pt x="1400" y="140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3015" y="20200"/>
                </a:lnTo>
                <a:lnTo>
                  <a:pt x="113015" y="140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015" y="2020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9T23:10:20Z</dcterms:created>
  <dc:creator>Sean Fitz</dc:creator>
  <dc:description/>
  <dc:language>en-US</dc:language>
  <cp:lastModifiedBy>WCPSS</cp:lastModifiedBy>
  <dcterms:modified xsi:type="dcterms:W3CDTF">2003-08-25T15:52:38Z</dcterms:modified>
  <cp:revision>22</cp:revision>
  <dc:subject/>
  <dc:title>J E O P A R D Y !!!</dc:title>
</cp:coreProperties>
</file>